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29C3B-B99E-45D6-B9AF-440298C96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D4368-E3D4-498E-BC52-C7C20B2DA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447C4-BE65-4E4E-B21B-1A9C13435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C63A5-F6C0-4296-9B57-1703DB031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13D92-ECB4-4B04-AA66-3E84260B4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C861E-3AF1-4EA4-AE36-E344E9D23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16C05-35AC-40BF-AFF3-034C28678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49B08-54CA-4539-9C98-F97F98207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80CEE-31EB-40D2-AB08-B354DA55C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CFF4C-9AFB-471A-8BA7-79C01A9CF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F585D-BBF6-4D1A-B872-0527E0C5B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AC39A-F0A5-4C87-BD3E-81890AFC6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5F920-8587-49B4-89C2-822F1BC5A5D2}" type="slidenum">
              <a:rPr b="0" lang="en-US" sz="1200" spc="-1" strike="noStrike">
                <a:solidFill>
                  <a:srgbClr val="898989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1500120"/>
            <a:ext cx="7815240" cy="21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Comic Sans MS"/>
              </a:rPr>
              <a:t>Фармакологија и токсикологија за стоматологију –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8. </a:t>
            </a:r>
            <a:r>
              <a:rPr b="1" lang="sr-CS" sz="3600" spc="-1" strike="noStrike">
                <a:solidFill>
                  <a:srgbClr val="000000"/>
                </a:solidFill>
                <a:latin typeface="Comic Sans MS"/>
              </a:rPr>
              <a:t>недеља наставе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omic Sans MS"/>
              </a:rPr>
              <a:t>проф. др Слободан Јанковић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Comic Sans MS"/>
              </a:rPr>
              <a:t>Групе антисептика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Rectangle 2"/>
          <p:cNvSpPr/>
          <p:nvPr/>
        </p:nvSpPr>
        <p:spPr>
          <a:xfrm>
            <a:off x="285840" y="1285920"/>
            <a:ext cx="8858160" cy="52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 u="sng">
                <a:solidFill>
                  <a:srgbClr val="c00000"/>
                </a:solidFill>
                <a:uFillTx/>
                <a:latin typeface="Comic Sans MS"/>
              </a:rPr>
              <a:t>Тешки метали</a:t>
            </a:r>
            <a:r>
              <a:rPr b="0" lang="ru-RU" sz="23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c00000"/>
                </a:solidFill>
                <a:latin typeface="Comic Sans MS"/>
              </a:rPr>
              <a:t>Сребро нитрат </a:t>
            </a:r>
            <a:r>
              <a:rPr b="0" lang="ru-RU" sz="2300" spc="-1" strike="noStrike">
                <a:solidFill>
                  <a:srgbClr val="000000"/>
                </a:solidFill>
                <a:latin typeface="Comic Sans MS"/>
              </a:rPr>
              <a:t>(А</a:t>
            </a: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gN</a:t>
            </a:r>
            <a:r>
              <a:rPr b="0" lang="ru-RU" sz="2300" spc="-1" strike="noStrike">
                <a:solidFill>
                  <a:srgbClr val="000000"/>
                </a:solidFill>
                <a:latin typeface="Comic Sans MS"/>
              </a:rPr>
              <a:t>О</a:t>
            </a:r>
            <a:r>
              <a:rPr b="0" lang="ru-RU" sz="23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ru-RU" sz="2300" spc="-1" strike="noStrike">
                <a:solidFill>
                  <a:srgbClr val="000000"/>
                </a:solidFill>
                <a:latin typeface="Comic Sans MS"/>
              </a:rPr>
              <a:t>) у концентрацији од </a:t>
            </a:r>
            <a:r>
              <a:rPr b="0" lang="ru-RU" sz="2300" spc="-1" strike="noStrike">
                <a:solidFill>
                  <a:srgbClr val="c00000"/>
                </a:solidFill>
                <a:latin typeface="Comic Sans MS"/>
              </a:rPr>
              <a:t>0.1% </a:t>
            </a:r>
            <a:r>
              <a:rPr b="0" lang="ru-RU" sz="2300" spc="-1" strike="noStrike">
                <a:solidFill>
                  <a:srgbClr val="000000"/>
                </a:solidFill>
                <a:latin typeface="Comic Sans MS"/>
              </a:rPr>
              <a:t>(Кредеове </a:t>
            </a:r>
            <a:r>
              <a:rPr b="0" lang="ru-RU" sz="23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300" spc="-1" strike="noStrike">
                <a:solidFill>
                  <a:srgbClr val="000000"/>
                </a:solidFill>
                <a:latin typeface="Comic Sans MS"/>
              </a:rPr>
              <a:t>капи) се са успехом користио за превенцију </a:t>
            </a:r>
            <a:r>
              <a:rPr b="0" lang="ru-RU" sz="23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300" spc="-1" strike="noStrike">
                <a:solidFill>
                  <a:srgbClr val="000000"/>
                </a:solidFill>
                <a:latin typeface="Comic Sans MS"/>
              </a:rPr>
              <a:t>инфекције ока проузроковачем </a:t>
            </a:r>
            <a:r>
              <a:rPr b="0" lang="ru-RU" sz="23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300" spc="-1" strike="noStrike">
                <a:solidFill>
                  <a:srgbClr val="000000"/>
                </a:solidFill>
                <a:latin typeface="Comic Sans MS"/>
              </a:rPr>
              <a:t>гонореје; сваком </a:t>
            </a:r>
            <a:r>
              <a:rPr b="0" lang="ru-RU" sz="23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300" spc="-1" strike="noStrike">
                <a:solidFill>
                  <a:srgbClr val="000000"/>
                </a:solidFill>
                <a:latin typeface="Comic Sans MS"/>
              </a:rPr>
              <a:t>новорођенчету се укапавала по једна кап овог </a:t>
            </a:r>
            <a:r>
              <a:rPr b="0" lang="ru-RU" sz="23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300" spc="-1" strike="noStrike">
                <a:solidFill>
                  <a:srgbClr val="000000"/>
                </a:solidFill>
                <a:latin typeface="Comic Sans MS"/>
              </a:rPr>
              <a:t>раствора у оба ока. Штапићи сребро нитрата се </a:t>
            </a:r>
            <a:r>
              <a:rPr b="0" lang="ru-RU" sz="23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300" spc="-1" strike="noStrike">
                <a:solidFill>
                  <a:srgbClr val="000000"/>
                </a:solidFill>
                <a:latin typeface="Comic Sans MS"/>
              </a:rPr>
              <a:t>користе као каустично средство за отклањање </a:t>
            </a:r>
            <a:r>
              <a:rPr b="0" lang="ru-RU" sz="23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300" spc="-1" strike="noStrike">
                <a:solidFill>
                  <a:srgbClr val="000000"/>
                </a:solidFill>
                <a:latin typeface="Comic Sans MS"/>
              </a:rPr>
              <a:t>хипертрофичних гранулација у ранама.</a:t>
            </a:r>
            <a:br>
              <a:rPr sz="2300"/>
            </a:br>
            <a:r>
              <a:rPr b="0" lang="ru-RU" sz="2300" spc="-1" strike="noStrike">
                <a:solidFill>
                  <a:srgbClr val="000000"/>
                </a:solidFill>
                <a:latin typeface="Comic Sans MS"/>
              </a:rPr>
              <a:t>Сублимат (</a:t>
            </a:r>
            <a:r>
              <a:rPr b="0" lang="ru-RU" sz="2300" spc="-1" strike="noStrike">
                <a:solidFill>
                  <a:srgbClr val="c00000"/>
                </a:solidFill>
                <a:latin typeface="Comic Sans MS"/>
              </a:rPr>
              <a:t>живин хлорид</a:t>
            </a:r>
            <a:r>
              <a:rPr b="0" lang="ru-RU" sz="23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HgCl</a:t>
            </a:r>
            <a:r>
              <a:rPr b="0" lang="ru-RU" sz="23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ru-RU" sz="2300" spc="-1" strike="noStrike">
                <a:solidFill>
                  <a:srgbClr val="000000"/>
                </a:solidFill>
                <a:latin typeface="Comic Sans MS"/>
              </a:rPr>
              <a:t>) се у разблажењу од </a:t>
            </a:r>
            <a:r>
              <a:rPr b="0" lang="ru-RU" sz="23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300" spc="-1" strike="noStrike">
                <a:solidFill>
                  <a:srgbClr val="c00000"/>
                </a:solidFill>
                <a:latin typeface="Comic Sans MS"/>
              </a:rPr>
              <a:t>1:1000</a:t>
            </a:r>
            <a:r>
              <a:rPr b="0" lang="ru-RU" sz="2300" spc="-1" strike="noStrike">
                <a:solidFill>
                  <a:srgbClr val="000000"/>
                </a:solidFill>
                <a:latin typeface="Comic Sans MS"/>
              </a:rPr>
              <a:t> користи за дезинфекцију предмета и, у </a:t>
            </a:r>
            <a:r>
              <a:rPr b="0" lang="ru-RU" sz="23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300" spc="-1" strike="noStrike">
                <a:solidFill>
                  <a:srgbClr val="000000"/>
                </a:solidFill>
                <a:latin typeface="Comic Sans MS"/>
              </a:rPr>
              <a:t>недостатку бољих средстава, за брзу дезинфекцију </a:t>
            </a:r>
            <a:r>
              <a:rPr b="0" lang="ru-RU" sz="23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300" spc="-1" strike="noStrike">
                <a:solidFill>
                  <a:srgbClr val="000000"/>
                </a:solidFill>
                <a:latin typeface="Comic Sans MS"/>
              </a:rPr>
              <a:t>руку хирурга после прања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Comic Sans MS"/>
              </a:rPr>
              <a:t>Једињење живе </a:t>
            </a:r>
            <a:r>
              <a:rPr b="0" lang="ru-RU" sz="2300" spc="-1" strike="noStrike">
                <a:solidFill>
                  <a:srgbClr val="c00000"/>
                </a:solidFill>
                <a:latin typeface="Comic Sans MS"/>
              </a:rPr>
              <a:t>тимеросал</a:t>
            </a:r>
            <a:r>
              <a:rPr b="0" lang="ru-RU" sz="2300" spc="-1" strike="noStrike">
                <a:solidFill>
                  <a:srgbClr val="000000"/>
                </a:solidFill>
                <a:latin typeface="Comic Sans MS"/>
              </a:rPr>
              <a:t> (</a:t>
            </a:r>
            <a:r>
              <a:rPr b="0" lang="ru-RU" sz="2300" spc="-1" strike="noStrike">
                <a:solidFill>
                  <a:srgbClr val="c00000"/>
                </a:solidFill>
                <a:latin typeface="Comic Sans MS"/>
              </a:rPr>
              <a:t>0,001-0,004%</a:t>
            </a:r>
            <a:r>
              <a:rPr b="0" lang="ru-RU" sz="2300" spc="-1" strike="noStrike">
                <a:solidFill>
                  <a:srgbClr val="000000"/>
                </a:solidFill>
                <a:latin typeface="Comic Sans MS"/>
              </a:rPr>
              <a:t>) се користи </a:t>
            </a:r>
            <a:r>
              <a:rPr b="0" lang="ru-RU" sz="23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300" spc="-1" strike="noStrike">
                <a:solidFill>
                  <a:srgbClr val="000000"/>
                </a:solidFill>
                <a:latin typeface="Comic Sans MS"/>
              </a:rPr>
              <a:t>као презерватив за вакцине и серуме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186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Comic Sans MS"/>
              </a:rPr>
              <a:t>Групе антисептика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Rectangle 1"/>
          <p:cNvSpPr/>
          <p:nvPr/>
        </p:nvSpPr>
        <p:spPr>
          <a:xfrm>
            <a:off x="357120" y="1381320"/>
            <a:ext cx="85726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c00000"/>
                </a:solidFill>
                <a:uFillTx/>
                <a:latin typeface="Comic Sans MS"/>
                <a:ea typeface="Times New Roman"/>
              </a:rPr>
              <a:t>Боје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 </a:t>
            </a:r>
            <a:r>
              <a:rPr b="0" lang="ru-RU" sz="24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Генцијана виолет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је природна боја која се у као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1%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раствор користи за лечење резистентне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кандидијазе усне дупље новорођенчади (соор). </a:t>
            </a:r>
            <a:r>
              <a:rPr b="0" lang="ru-RU" sz="24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Риванол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је акридинска боја која се као </a:t>
            </a:r>
            <a:r>
              <a:rPr b="0" lang="ru-RU" sz="24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0,1%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раствор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користи за испирање ра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c00000"/>
                </a:solidFill>
                <a:uFillTx/>
                <a:latin typeface="Comic Sans MS"/>
                <a:ea typeface="Times New Roman"/>
              </a:rPr>
              <a:t>Алдехиди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 </a:t>
            </a:r>
            <a:r>
              <a:rPr b="0" lang="ru-RU" sz="24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Формалдехид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и </a:t>
            </a:r>
            <a:r>
              <a:rPr b="0" lang="ru-RU" sz="24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глутаралдехид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се користе за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дезинфекцију гумених катетера и оптичких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инструмената. Инструменти и катетери се ставе у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затворен простор заједно са таблетама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формалдехида из којих активна супстанца полако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испарава. Глутаралдехид се користи у виду раствора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2%) који мора да се алкалинизује (пХ око 8) да би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се активирао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5" descr=""/>
          <p:cNvPicPr/>
          <p:nvPr/>
        </p:nvPicPr>
        <p:blipFill>
          <a:blip r:embed="rId1"/>
          <a:stretch/>
        </p:blipFill>
        <p:spPr>
          <a:xfrm>
            <a:off x="4140360" y="6093000"/>
            <a:ext cx="3651120" cy="62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5686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omic Sans MS"/>
              </a:rPr>
              <a:t>НЕЖЕЉЕНА ДЕЈСТВА АНТИСЕПТИКА И ДЕЗИНФИЦИЈЕНАС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Rectangle 1"/>
          <p:cNvSpPr/>
          <p:nvPr/>
        </p:nvSpPr>
        <p:spPr>
          <a:xfrm>
            <a:off x="500040" y="1775880"/>
            <a:ext cx="8215200" cy="491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Хлорхексидин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изазива г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астроинтестиналн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у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иритациј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у. У већим дозама доводи до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о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ш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тећењ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а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јетре и плућа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Интравенска примена и инхалација изазивају метхемоглобинемију и хемолизу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Водоник пероксид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H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)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д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елује локално надражајно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Ако се убаци у дубоку рану, може ослободити кисеоник и направити гасну емболију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Ако се попије, изазива само мучнину и повраћање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 Када се водоник пероксид попије, треба о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тклонити гас из желуца назогастричком сукцијом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Пацијента који има гасну емболију плућне артерије ставити одмах у Тренделенбургов положај и хитно послати у хипербаричну комору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"/>
          <p:cNvPicPr/>
          <p:nvPr/>
        </p:nvPicPr>
        <p:blipFill>
          <a:blip r:embed="rId1"/>
          <a:stretch/>
        </p:blipFill>
        <p:spPr>
          <a:xfrm>
            <a:off x="6084720" y="63360"/>
            <a:ext cx="2786400" cy="17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omic Sans MS"/>
              </a:rPr>
              <a:t>НЕЖЕЉЕНА ДЕЈСТВА АНТИСЕПТИКА И ДЕЗИНФИЦИЈЕНАС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Rectangle 1"/>
          <p:cNvSpPr/>
          <p:nvPr/>
        </p:nvSpPr>
        <p:spPr>
          <a:xfrm>
            <a:off x="285840" y="1535040"/>
            <a:ext cx="8858160" cy="49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Јодофоре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су супстанце у којима је јод везан за високомолекуларни носач, што омогућује већу растворљивост (нпр. повидон)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После ингестије, јод и јодофоре делују каустично: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изазивају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бол, повраћање, пролив, хиповолемиј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у и шок.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Пацијенту треба одмах дати раствор скроба или млеко, јер у контакту са њима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јод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прелази у мање токсичне јодиде; садржај желуца постаје тамно-љубичаст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 Треба применити и активни угаљ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Калијум перманганат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KMnO</a:t>
            </a:r>
            <a:r>
              <a:rPr b="0" lang="en-US" sz="22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4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)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је ј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ако оксидационо средство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Ако се попије, делује каустично; у контакту са водом распада се на MnO</a:t>
            </a:r>
            <a:r>
              <a:rPr b="0" lang="en-US" sz="22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, KOH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и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O</a:t>
            </a:r>
            <a:r>
              <a:rPr b="0" lang="en-US" sz="22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 Манган диоксид боји ткива црно-браон.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Због оксидативног дејства изазива метхемоглобинемију, хемолизу, о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ш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тећење јетре и плућа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 Тровање калијум перманганатом се л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ечи као тровање базама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omic Sans MS"/>
              </a:rPr>
              <a:t>НЕЖЕЉЕНА ДЕЈСТВА АНТИСЕПТИКА И ДЕЗИНФИЦИЈЕНАС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Rectangle 1"/>
          <p:cNvSpPr/>
          <p:nvPr/>
        </p:nvSpPr>
        <p:spPr>
          <a:xfrm>
            <a:off x="428760" y="1806480"/>
            <a:ext cx="82152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Гас хлор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изазива о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ш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тећење плућа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Уношење препарата хлора оралним путем има каустично дејство на желудац и једњак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Формалдехид</a:t>
            </a:r>
            <a:r>
              <a:rPr b="1" lang="sr-CS" sz="24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се о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бично налази у водено-алкохолном раствору (37% формалдехида, 12-15% метанола)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Ако се унесе орално, делује каустично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Пошто се апсорбује,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формалдехид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прелази у мрављу киселину и изазива тешку ацидозу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 Треба п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рименити натријум-бикарбонат како би се сузбила ацидоза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Локалн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е промене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лечити као код ингестије киселина или база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omic Sans MS"/>
              </a:rPr>
              <a:t>НЕЖЕЉЕНА ДЕЈСТВА АНТИСЕПТИКА И ДЕЗИНФИЦИЈЕНАС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500040" y="1595520"/>
            <a:ext cx="8215200" cy="503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Фенол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д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елује каустично у гастроинтестиналном тракту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У ЦНС-у делује стимулативно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Симптоми и знаци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тровања су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к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онвулзије, летаргија, кома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, а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цидоза, метхемоглобинемиј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а, б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ол у трбуху,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повраћање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и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перфорација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Ако се проспе на кожу, пребојава је бледо браон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Деконтаминацију коже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треба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радити са нискомолекуларним полиетилен-гликолом (ПЕТ 300 или 4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Хексахлорофен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хлор-фенол)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и </a:t>
            </a:r>
            <a:r>
              <a:rPr b="1" lang="sr-CS" sz="24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к</a:t>
            </a:r>
            <a:r>
              <a:rPr b="1" lang="en-US" sz="24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рез</a:t>
            </a:r>
            <a:r>
              <a:rPr b="1" lang="sr-CS" sz="24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о</a:t>
            </a:r>
            <a:r>
              <a:rPr b="1" lang="en-US" sz="24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ли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метил-феноли)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д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елују каустично, изазивају хемолизу, о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ш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тећење бубрега и јетре,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и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депресију ЦНС-а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Хронична употреба хексахлорофена код беба доводи до вакуоларне енцефалопатије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omic Sans MS"/>
              </a:rPr>
              <a:t>НЕЖЕЉЕНА ДЕЈСТВА АНТИСЕПТИКА И ДЕЗИНФИЦИЈЕНАС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642960" y="1857240"/>
            <a:ext cx="8215200" cy="461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Борна киселина (H</a:t>
            </a:r>
            <a:r>
              <a:rPr b="1" lang="en-US" sz="2400" spc="-1" strike="noStrike" baseline="-30000">
                <a:solidFill>
                  <a:srgbClr val="c00000"/>
                </a:solidFill>
                <a:latin typeface="Comic Sans MS"/>
                <a:ea typeface="Times New Roman"/>
              </a:rPr>
              <a:t>3</a:t>
            </a:r>
            <a:r>
              <a:rPr b="1" lang="en-US" sz="24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BO</a:t>
            </a:r>
            <a:r>
              <a:rPr b="1" lang="en-US" sz="2400" spc="-1" strike="noStrike" baseline="-30000">
                <a:solidFill>
                  <a:srgbClr val="c00000"/>
                </a:solidFill>
                <a:latin typeface="Comic Sans MS"/>
                <a:ea typeface="Times New Roman"/>
              </a:rPr>
              <a:t>3</a:t>
            </a:r>
            <a:r>
              <a:rPr b="1" lang="en-US" sz="24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се добија из боракса (N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10H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)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и к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ористи као отров за бубашвабе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Ако се попије, делује локално надражајно (бол у трбуху, повраћање, пролив – зелено-плав садржај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).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Пацијент цео поцрвени, личи на “куваног рака”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Оспа је посебно присутна на табанима, длановима и задњици; после 1-2 дана долази до десквамације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 Може доћи и до о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штећење бубрега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Алопеција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се јавља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код хроничне изложености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 Код тровања борном киселином а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ктивни угаљ не вреди користити, јер се не везује за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ову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киселину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Хемодијализа може бити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од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корис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ти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00040" y="2785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5400" spc="-1" strike="noStrike">
                <a:solidFill>
                  <a:srgbClr val="000000"/>
                </a:solidFill>
                <a:latin typeface="Comic Sans MS"/>
              </a:rPr>
              <a:t>Вежбе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omic Sans MS"/>
              </a:rPr>
              <a:t>АНТИСЕПТИЦИ КОЈИ СЕ ПРИМЕЊУЈУ У УСНОЈ ДУПЉИ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Rectangle 2"/>
          <p:cNvSpPr/>
          <p:nvPr/>
        </p:nvSpPr>
        <p:spPr>
          <a:xfrm>
            <a:off x="500040" y="1643040"/>
            <a:ext cx="8429760" cy="521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Антисептици се користе у оквиру паста за зубе и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других препарата ради превенције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формирања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бактеријског плак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За ту сврху користе се бис-бигванидни антисептици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(хлорхексидин), кватернерна амонијумова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једињења (цетилпиридинијум и бензалконијум-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хлорид), феноли, оксидациона средства,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детерџенти и амино-алкохол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До сада је највећу ефикасност показао </a:t>
            </a:r>
            <a:r>
              <a:rPr b="1" lang="sr-CS" sz="2400" spc="-1" strike="noStrike">
                <a:solidFill>
                  <a:srgbClr val="c00000"/>
                </a:solidFill>
                <a:latin typeface="Comic Sans MS"/>
              </a:rPr>
              <a:t>хлорхексидин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За спречавање плака антисептици се користе у виду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течности за испирање уста, жвакаће гуме и пасте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за зуб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omic Sans MS"/>
              </a:rPr>
              <a:t>Хлорхексидин глуконат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TextBox 3"/>
          <p:cNvSpPr/>
          <p:nvPr/>
        </p:nvSpPr>
        <p:spPr>
          <a:xfrm>
            <a:off x="451440" y="4286160"/>
            <a:ext cx="646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Индикације:  лечење периодонтитиса код одрасли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Припрема се у виду раствора за испирање уста и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микротаблета које се постављају у гингивалне џепов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5" descr=""/>
          <p:cNvPicPr/>
          <p:nvPr/>
        </p:nvPicPr>
        <p:blipFill>
          <a:blip r:embed="rId1"/>
          <a:stretch/>
        </p:blipFill>
        <p:spPr>
          <a:xfrm>
            <a:off x="536400" y="1413000"/>
            <a:ext cx="802656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28760" y="2999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5400" spc="-1" strike="noStrike">
                <a:solidFill>
                  <a:srgbClr val="000000"/>
                </a:solidFill>
                <a:latin typeface="Comic Sans MS"/>
              </a:rPr>
              <a:t>Предавања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Comic Sans MS"/>
              </a:rPr>
              <a:t>Антисептици у стоматологији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Rectangle 1"/>
          <p:cNvSpPr/>
          <p:nvPr/>
        </p:nvSpPr>
        <p:spPr>
          <a:xfrm>
            <a:off x="428760" y="1735200"/>
            <a:ext cx="81439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Хлорхексидин</a:t>
            </a:r>
            <a:r>
              <a:rPr b="1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понекада доводи до пребојавања језика браон бојом, посебно ако се у храни налазе супстанце које су анјони, а саме имају својство боје. Има горак укус, и код неких пацијената може довести до поремећаја укуса. Веома ретко се јављају улкуси слузокоже желуца и оток паротидне жлезд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Горе наведени антисептици се могу користити за испирање постоперативне ране, за лечење рецидивантних оралних улцерација, за лечење стоматитиса због протезе и за дезинфекцију постављених ортодонстских апарата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omic Sans MS"/>
              </a:rPr>
              <a:t>Цетилпиридинијум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TextBox 5"/>
          <p:cNvSpPr/>
          <p:nvPr/>
        </p:nvSpPr>
        <p:spPr>
          <a:xfrm>
            <a:off x="802800" y="4143240"/>
            <a:ext cx="4030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ористи се у концентрацији од 0.1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пречава настанак плака и леч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гингивити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6" descr=""/>
          <p:cNvPicPr/>
          <p:nvPr/>
        </p:nvPicPr>
        <p:blipFill>
          <a:blip r:embed="rId1"/>
          <a:stretch/>
        </p:blipFill>
        <p:spPr>
          <a:xfrm>
            <a:off x="5435640" y="1203480"/>
            <a:ext cx="3316320" cy="554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Comic Sans MS"/>
              </a:rPr>
              <a:t>ЧЕПИЋИ</a:t>
            </a:r>
            <a:br>
              <a:rPr sz="3600"/>
            </a:br>
            <a:r>
              <a:rPr b="1" lang="it-IT" sz="3600" spc="-1" strike="noStrike">
                <a:solidFill>
                  <a:srgbClr val="000000"/>
                </a:solidFill>
                <a:latin typeface="Comic Sans MS"/>
              </a:rPr>
              <a:t>(Suppositoria)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Rectangle 2"/>
          <p:cNvSpPr/>
          <p:nvPr/>
        </p:nvSpPr>
        <p:spPr>
          <a:xfrm>
            <a:off x="571680" y="1657440"/>
            <a:ext cx="83581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c00000"/>
                </a:solidFill>
                <a:latin typeface="Comic Sans MS"/>
              </a:rPr>
              <a:t>Супозиторијуми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су меки лековити препарати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коничног, кугластог, ваљкастог или јајастог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облика који служе за увлачење у отворе тела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(анус, вагина, нос, уво, рана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На собној температури су чвршћи, што им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омогућава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примену. У додиру са телом температура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супозиторијума расте и они се топе,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ослобађајући лековиту супстанц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Супозиторијуми се могу чувати само на собној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температури; ако се чувају у хладњаку,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долази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до иреверзибилних промена у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конституенсу и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супозиторијуми постају крти и неупотребљиви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Comic Sans MS"/>
              </a:rPr>
              <a:t>ЧЕПИЋИ</a:t>
            </a:r>
            <a:br>
              <a:rPr sz="3600"/>
            </a:br>
            <a:r>
              <a:rPr b="1" lang="it-IT" sz="3600" spc="-1" strike="noStrike">
                <a:solidFill>
                  <a:srgbClr val="000000"/>
                </a:solidFill>
                <a:latin typeface="Comic Sans MS"/>
              </a:rPr>
              <a:t>(Suppositoria)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50004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С обзиром да се лако кваре, чепићи се издају увијени у воштану хартију или станиол. Увек треба скренути пажњу болеснику да пре примене чепића скине станиол и да се чепић не гута!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1.</a:t>
            </a:r>
            <a:r>
              <a:rPr b="1" lang="it-IT" sz="4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uppositoria analia</a:t>
            </a:r>
            <a:r>
              <a:rPr b="0" lang="it-IT" sz="4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Rectangle 1"/>
          <p:cNvSpPr/>
          <p:nvPr/>
        </p:nvSpPr>
        <p:spPr>
          <a:xfrm>
            <a:off x="357120" y="1804680"/>
            <a:ext cx="8429760" cy="39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Ч</a:t>
            </a:r>
            <a:r>
              <a:rPr b="1" lang="it-IT" sz="28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епићи за аналну примену</a:t>
            </a:r>
            <a:r>
              <a:rPr b="1" lang="sr-CS" sz="28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Д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уги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су око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око 3цм а широки око 1ц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Конституенси аналних чепића могу бити какаово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уље (Cacao oleum), полиетиленгликоли или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смеса желатина и глицерол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Анални супозиторијуми се примењују тако што се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потискују у анус прстом све док не прођу анални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сфинктер; знак да је чепић правилно примењен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јесте да се не може споља напипат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</a:t>
            </a:r>
            <a:r>
              <a:rPr b="0" lang="sr-C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1.</a:t>
            </a:r>
            <a:r>
              <a:rPr b="1" lang="it-IT" sz="4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uppositoria analia</a:t>
            </a:r>
            <a:r>
              <a:rPr b="0" lang="it-IT" sz="4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Rectangle 2"/>
          <p:cNvSpPr/>
          <p:nvPr/>
        </p:nvSpPr>
        <p:spPr>
          <a:xfrm>
            <a:off x="285840" y="1785960"/>
            <a:ext cx="86439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Лековите супстанце примењујемо у облику чепића онда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када желимо </a:t>
            </a:r>
            <a:r>
              <a:rPr b="0" lang="it-IT" sz="24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локално дејство 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на анални канал и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онда када желимо да лек </a:t>
            </a:r>
            <a:r>
              <a:rPr b="0" lang="it-IT" sz="24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не дражи слузокожу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желуца 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или да приликом апсорпције </a:t>
            </a:r>
            <a:r>
              <a:rPr b="0" lang="it-IT" sz="24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заобиђе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јетру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(јер венска крв из аналног канала и доње 1/4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ректума отиче у доње хемороидалне вене које се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преко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v. iliacae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ternae et communis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уливају у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доњу шупљу вену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Нестероидни антиинфламаторни лекови који имају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својство да драже слузокожу желуца се често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примењују у облику чепића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000000"/>
                </a:solidFill>
                <a:latin typeface="Comic Sans MS"/>
              </a:rPr>
              <a:t>2. </a:t>
            </a:r>
            <a:r>
              <a:rPr b="1" lang="it-IT" sz="4000" spc="-1" strike="noStrike">
                <a:solidFill>
                  <a:srgbClr val="000000"/>
                </a:solidFill>
                <a:latin typeface="Comic Sans MS"/>
              </a:rPr>
              <a:t>Globuli vaginales</a:t>
            </a:r>
            <a:r>
              <a:rPr b="0" lang="it-IT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Rectangle 2"/>
          <p:cNvSpPr/>
          <p:nvPr/>
        </p:nvSpPr>
        <p:spPr>
          <a:xfrm>
            <a:off x="214200" y="2413080"/>
            <a:ext cx="89298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c00000"/>
                </a:solidFill>
                <a:latin typeface="Comic Sans MS"/>
              </a:rPr>
              <a:t>Ч</a:t>
            </a:r>
            <a:r>
              <a:rPr b="1" lang="it-IT" sz="2800" spc="-1" strike="noStrike">
                <a:solidFill>
                  <a:srgbClr val="c00000"/>
                </a:solidFill>
                <a:latin typeface="Comic Sans MS"/>
              </a:rPr>
              <a:t>епићи за вагиналну примену</a:t>
            </a:r>
            <a:r>
              <a:rPr b="1" lang="sr-CS" sz="2800" spc="-1" strike="noStrike">
                <a:solidFill>
                  <a:srgbClr val="c00000"/>
                </a:solidFill>
                <a:latin typeface="Comic Sans MS"/>
              </a:rPr>
              <a:t> </a:t>
            </a:r>
            <a:r>
              <a:rPr b="1" lang="it-IT" sz="2800" spc="-1" strike="noStrike">
                <a:solidFill>
                  <a:srgbClr val="c00000"/>
                </a:solidFill>
                <a:latin typeface="Comic Sans MS"/>
              </a:rPr>
              <a:t>(Ovula, Vagitori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Они су округли или јајасти, већи од аналних чепић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Конституенси вагиналних чепића су исти као код аналних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чепић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Вагиториа треба да се распадне најдаље за 60 минута по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апликациј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004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Comic Sans MS"/>
              </a:rPr>
              <a:t>3. </a:t>
            </a:r>
            <a:r>
              <a:rPr b="1" lang="it-IT" sz="4000" spc="-1" strike="noStrike">
                <a:solidFill>
                  <a:srgbClr val="000000"/>
                </a:solidFill>
                <a:latin typeface="Comic Sans MS"/>
              </a:rPr>
              <a:t>Cereoli (Bacilli medicati seu Styli)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Rectangle 2"/>
          <p:cNvSpPr/>
          <p:nvPr/>
        </p:nvSpPr>
        <p:spPr>
          <a:xfrm>
            <a:off x="500040" y="1996920"/>
            <a:ext cx="8643960" cy="36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c00000"/>
                </a:solidFill>
                <a:latin typeface="Comic Sans MS"/>
              </a:rPr>
              <a:t>Ш</a:t>
            </a:r>
            <a:r>
              <a:rPr b="1" lang="it-IT" sz="2800" spc="-1" strike="noStrike">
                <a:solidFill>
                  <a:srgbClr val="c00000"/>
                </a:solidFill>
                <a:latin typeface="Comic Sans MS"/>
              </a:rPr>
              <a:t>тапићи за примену у нос, спољни ушни канал, уретру, ране или синусе</a:t>
            </a:r>
            <a:r>
              <a:rPr b="1" lang="sr-CS" sz="2800" spc="-1" strike="noStrike">
                <a:solidFill>
                  <a:srgbClr val="c00000"/>
                </a:solidFill>
                <a:latin typeface="Comic Sans MS"/>
              </a:rPr>
              <a:t>: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Тањи су од аналних чепића, ваљкасти и на крајевима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зашиљен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Конституенс је сличан конституенсу аналних чепић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Користе се када је потребно локално дејство лек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Штапићи који се уносе у уретру или ране морају бити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стерилни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Comic Sans MS"/>
              </a:rPr>
              <a:t>АНТИСЕПТИЦИ И ДЕЗИНФИЦИЈЕНСИ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Rectangle 2"/>
          <p:cNvSpPr/>
          <p:nvPr/>
        </p:nvSpPr>
        <p:spPr>
          <a:xfrm>
            <a:off x="357120" y="1500120"/>
            <a:ext cx="8429760" cy="49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c33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c00000"/>
                </a:solidFill>
                <a:latin typeface="Comic Sans MS"/>
              </a:rPr>
              <a:t>Дезинфекција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је поступак уништавања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вегетативних облика микроорганизама при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чему споре остају неоштећене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c33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Ако се дезинфекција спроводи на кожи и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слузокожама човека, такав поступак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називамо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sr-CS" sz="2400" spc="-1" strike="noStrike">
                <a:solidFill>
                  <a:srgbClr val="c00000"/>
                </a:solidFill>
                <a:latin typeface="Comic Sans MS"/>
              </a:rPr>
              <a:t>антисепсом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c33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Comic Sans MS"/>
              </a:rPr>
              <a:t>Антисептици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и </a:t>
            </a:r>
            <a:r>
              <a:rPr b="1" lang="en-US" sz="2400" spc="-1" strike="noStrike">
                <a:solidFill>
                  <a:srgbClr val="c00000"/>
                </a:solidFill>
                <a:latin typeface="Comic Sans MS"/>
              </a:rPr>
              <a:t>дезинфицијенси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су супстанце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које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неспецифично делују на микроорганизме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вршећи денатурацију њихових структурних и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функционалних протеина. Они су сувише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токсични за ткива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да би се примењивали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системски, па се зато користе искључиво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локал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Comic Sans MS"/>
              </a:rPr>
              <a:t>Групе антисептика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Rectangle 1"/>
          <p:cNvSpPr/>
          <p:nvPr/>
        </p:nvSpPr>
        <p:spPr>
          <a:xfrm>
            <a:off x="428760" y="1810080"/>
            <a:ext cx="8501040" cy="42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c00000"/>
                </a:solidFill>
                <a:uFillTx/>
                <a:latin typeface="Comic Sans MS"/>
                <a:ea typeface="Times New Roman"/>
              </a:rPr>
              <a:t>Алкохоли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 Највише се користи </a:t>
            </a:r>
            <a:r>
              <a:rPr b="0" lang="ru-RU" sz="24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етанол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</a:t>
            </a:r>
            <a:r>
              <a:rPr b="0" lang="pl-P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H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-</a:t>
            </a:r>
            <a:r>
              <a:rPr b="0" lang="pl-P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H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О</a:t>
            </a:r>
            <a:r>
              <a:rPr b="0" lang="pl-P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у концентрацији од </a:t>
            </a:r>
            <a:r>
              <a:rPr b="0" lang="ru-RU" sz="24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70%.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Њиме се врши чишћење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коже пре примене ињекције и пре хируршке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интервенције (тада се кожа прво очисти бензином,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затим алкохолом и на крају препаратом јода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c00000"/>
                </a:solidFill>
                <a:uFillTx/>
                <a:latin typeface="Comic Sans MS"/>
                <a:ea typeface="Times New Roman"/>
              </a:rPr>
              <a:t>Киселине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 </a:t>
            </a:r>
            <a:r>
              <a:rPr b="0" lang="ru-RU" sz="24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Борна киселина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</a:t>
            </a:r>
            <a:r>
              <a:rPr b="0" lang="pl-P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3</a:t>
            </a:r>
            <a:r>
              <a:rPr b="0" lang="pl-P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О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) се користи као </a:t>
            </a:r>
            <a:r>
              <a:rPr b="0" lang="ru-RU" sz="24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3%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раствор за испирање шупљих органа (мокраћне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бешике, вагине, ректума). У виду праха користи се за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посипање газа на ранама које су инфициране са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seudomonas aeruginosa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Comic Sans MS"/>
              </a:rPr>
              <a:t>Групе антисептика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Rectangle 1"/>
          <p:cNvSpPr/>
          <p:nvPr/>
        </p:nvSpPr>
        <p:spPr>
          <a:xfrm>
            <a:off x="285840" y="2054160"/>
            <a:ext cx="8572320" cy="34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c00000"/>
                </a:solidFill>
                <a:uFillTx/>
                <a:latin typeface="Comic Sans MS"/>
                <a:ea typeface="Times New Roman"/>
              </a:rPr>
              <a:t>Феноли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 Први од фенола је коришћен обични фенол,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познат под називом </a:t>
            </a:r>
            <a:r>
              <a:rPr b="0" lang="ru-RU" sz="24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карболна киселина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</a:t>
            </a:r>
            <a:r>
              <a:rPr b="0" lang="pl-P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6</a:t>
            </a:r>
            <a:r>
              <a:rPr b="0" lang="pl-P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5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О</a:t>
            </a:r>
            <a:r>
              <a:rPr b="0" lang="pl-P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).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Енглески хирург Листер је први почео еру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антисепсе (1864. године) управо употребом карболне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киселине. Раствор карболне киселине (</a:t>
            </a:r>
            <a:r>
              <a:rPr b="0" lang="ru-RU" sz="24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3-5%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) се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користи за дезинфекцију инструмената који се не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могу стерилисати топлотом и за дезинфекцију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подова и зидова.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Сличну употребу имају и </a:t>
            </a:r>
            <a:r>
              <a:rPr b="0" lang="en-US" sz="24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крезоли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метил-феноли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Comic Sans MS"/>
              </a:rPr>
              <a:t>Групе антисептика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Rectangle 2"/>
          <p:cNvSpPr/>
          <p:nvPr/>
        </p:nvSpPr>
        <p:spPr>
          <a:xfrm>
            <a:off x="357120" y="1428840"/>
            <a:ext cx="8501040" cy="513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c00000"/>
                </a:solidFill>
                <a:uFillTx/>
                <a:latin typeface="Comic Sans MS"/>
                <a:ea typeface="Times New Roman"/>
              </a:rPr>
              <a:t>Оксидациона средства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 Ове супстанце врше оксидацију протеина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микроорганизама и на тај начин их денатуриш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Калијум перманганат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"хиперманган", КМ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О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4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) се у разблажењу од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1:5000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користи за испирање ран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Водоник пероксид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"хидроген",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О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) се у виду </a:t>
            </a:r>
            <a:r>
              <a:rPr b="0" lang="ru-RU" sz="20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3%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раствора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користи за испирање рана; не само да оксидише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микроорганизме, већ ствара пену (због ослобађања кисеоника)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која чисто механички избацује нечистоће из ране. Такође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делује локално хемостатички. Веома дубоке ране не треба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испирати водоник пероксидом јер ослобођени кисеоник може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ући у отворене крвне судове и изазвати гасну емболију. У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десетоструко већем разблажењу (</a:t>
            </a:r>
            <a:r>
              <a:rPr b="0" lang="ru-RU" sz="20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0,3%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) водоник пероксид се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може употребити за испирање усне шупљине и орофаринкс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Једињење сирћетне киселине са водоник пероксидом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</a:t>
            </a:r>
            <a:r>
              <a:rPr b="0" lang="ru-RU" sz="20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персирћетна киселина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H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3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ООО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) се користи за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дезинфекцију предмета.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5857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Comic Sans MS"/>
              </a:rPr>
              <a:t>Групе антисептика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Rectangle 1"/>
          <p:cNvSpPr/>
          <p:nvPr/>
        </p:nvSpPr>
        <p:spPr>
          <a:xfrm>
            <a:off x="428760" y="1168920"/>
            <a:ext cx="871524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c00000"/>
                </a:solidFill>
                <a:uFillTx/>
                <a:latin typeface="Comic Sans MS"/>
                <a:ea typeface="Times New Roman"/>
              </a:rPr>
              <a:t>Халогена једињења</a:t>
            </a:r>
            <a:r>
              <a:rPr b="0" lang="ru-RU" sz="2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 То су супстанције које у свом молекулу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имају неки халогени елемент (обично јод или хлор). </a:t>
            </a:r>
            <a:r>
              <a:rPr b="0" lang="ru-RU" sz="22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Алкохолни раствор јода </a:t>
            </a:r>
            <a:r>
              <a:rPr b="0" lang="ru-RU" sz="2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тинктура јода: 6,5г јода + 2,5г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калијум јодида + 91г концентрованог алкохола) се користи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за чишћење коже пре хируршке интервенције, за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премазивање околине ране и за брзу припрему руку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хирурга. У новије време за чишћење коже користе се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једињења јода са поливинил-пиролидоном, тзв. </a:t>
            </a:r>
            <a:r>
              <a:rPr b="0" lang="ru-RU" sz="22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повидон-</a:t>
            </a:r>
            <a:r>
              <a:rPr b="0" lang="en-US" sz="22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јод,</a:t>
            </a:r>
            <a:r>
              <a:rPr b="0" lang="ru-RU" sz="2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раствор и пена. Са препаратима јода треба бити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опрезан код мале деце јер ексцесивна апсорпција са коже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може довести до хипотиреоз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Carrel</a:t>
            </a:r>
            <a:r>
              <a:rPr b="0" lang="ru-RU" sz="22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-</a:t>
            </a:r>
            <a:r>
              <a:rPr b="0" lang="en-US" sz="22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Dakin</a:t>
            </a:r>
            <a:r>
              <a:rPr b="0" lang="ru-RU" sz="22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-ов раствор</a:t>
            </a:r>
            <a:r>
              <a:rPr b="0" lang="ru-RU" sz="2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(раствор </a:t>
            </a:r>
            <a:r>
              <a:rPr b="0" lang="ru-RU" sz="22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натријум-хипохлорита</a:t>
            </a:r>
            <a:r>
              <a:rPr b="0" lang="ru-RU" sz="2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) се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користи за испирање рана. Сличну функцију има и </a:t>
            </a:r>
            <a:r>
              <a:rPr b="0" lang="ru-RU" sz="22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раствор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хлорамина</a:t>
            </a:r>
            <a:r>
              <a:rPr b="0" lang="ru-RU" sz="2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(п-толуолсулфан хлорамид натријум, 0,25-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0,5%) који се, осим тога, може користити и за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дезинфекцију предмета и подова (1-5%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Comic Sans MS"/>
              </a:rPr>
              <a:t>Групе антисептика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Rectangle 2"/>
          <p:cNvSpPr/>
          <p:nvPr/>
        </p:nvSpPr>
        <p:spPr>
          <a:xfrm>
            <a:off x="500040" y="2274840"/>
            <a:ext cx="8001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c00000"/>
                </a:solidFill>
                <a:uFillTx/>
                <a:latin typeface="Comic Sans MS"/>
                <a:ea typeface="Times New Roman"/>
              </a:rPr>
              <a:t>Детерџенти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 Детерџенти су површински активне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материје чији катјонски део продире кроз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мембрану микроорганизма и разара је. Катјонски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део скоро увек садржи кватернерни азот. </a:t>
            </a:r>
            <a:r>
              <a:rPr b="0" lang="ru-RU" sz="24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Бензалконијум хлорид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и други детерџенти се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примарно користе за дезинфекцију предмета и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подова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Comic Sans MS"/>
              </a:rPr>
              <a:t>Групе антисептика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Rectangle 2"/>
          <p:cNvSpPr/>
          <p:nvPr/>
        </p:nvSpPr>
        <p:spPr>
          <a:xfrm>
            <a:off x="500040" y="2214720"/>
            <a:ext cx="8358120" cy="29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c00000"/>
                </a:solidFill>
                <a:uFillTx/>
                <a:latin typeface="Comic Sans MS"/>
              </a:rPr>
              <a:t>Сапуни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. Механизам дејства сапуна је исти као код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детерџената, али је овде део молекуле који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родире у мембрану микроорганизма а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нј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он.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Сапуни су у ствари </a:t>
            </a:r>
            <a:r>
              <a:rPr b="0" lang="ru-RU" sz="2400" spc="-1" strike="noStrike">
                <a:solidFill>
                  <a:srgbClr val="c00000"/>
                </a:solidFill>
                <a:latin typeface="Comic Sans MS"/>
              </a:rPr>
              <a:t>натријумове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или </a:t>
            </a:r>
            <a:r>
              <a:rPr b="0" lang="ru-RU" sz="2400" spc="-1" strike="noStrike">
                <a:solidFill>
                  <a:srgbClr val="c00000"/>
                </a:solidFill>
                <a:latin typeface="Comic Sans MS"/>
              </a:rPr>
              <a:t>калијумове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400" spc="-1" strike="noStrike">
                <a:solidFill>
                  <a:srgbClr val="c00000"/>
                </a:solidFill>
                <a:latin typeface="Comic Sans MS"/>
              </a:rPr>
              <a:t>соли масних киселина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. Користе се за прање и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дезинфекцију коже пре хируршке интервенције. </a:t>
            </a:r>
            <a:br>
              <a:rPr sz="20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2T05:40:50Z</dcterms:created>
  <dc:creator> </dc:creator>
  <dc:description/>
  <dc:language>en-US</dc:language>
  <cp:lastModifiedBy>Slobodan Jankovic</cp:lastModifiedBy>
  <dcterms:modified xsi:type="dcterms:W3CDTF">2015-08-02T11:06:30Z</dcterms:modified>
  <cp:revision>160</cp:revision>
  <dc:subject/>
  <dc:title>Slide 1</dc:title>
</cp:coreProperties>
</file>