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F07D-B88F-43B5-BF8C-E0099FC9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9EC-0A1E-4EC9-86C5-C597FCDC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5FF-6280-4C0F-AA9D-6AEFEE6E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8B4-E061-42B4-8FCE-25357C7B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CD0-133E-4760-8049-FB7F67F3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D72-A60C-4940-AF8D-B81DE853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CE42-8BEC-4102-AFEC-BFA97729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ECC-B83C-46E1-BF38-50EA1F7F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2B7D-B442-4201-987C-CE538A17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CB5-10D2-4378-939F-F752F6FE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8EB-BE7D-454A-A01B-36DF1CDF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616-E720-4285-B081-38A44819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8E16-26AA-4D8C-9E35-594DF79ECA65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285840" y="1285920"/>
            <a:ext cx="885816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c00000"/>
                </a:solidFill>
                <a:uFillTx/>
                <a:latin typeface="Comic Sans MS"/>
              </a:rPr>
              <a:t>Тешки метали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Сребро нитрат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(А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gN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) у концентрацији од 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0.1%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(Кредеове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капи) се са успехом користио за превенцију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инфекције ока проузроковачем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гонореје; сваком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новорођенчету се укапавала по једна кап овог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раствора у оба ока. Штапићи сребро нитрата се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користе као каустично средство за отклањање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хипертрофичних гранулација у ранама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Сублимат (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живин хлорид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HgCl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) се у разблажењу од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1:1000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 користи за дезинфекцију предмета и, у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недостатку бољих средстава, за брзу дезинфекцију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руку хирурга после прањ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Једињење живе 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тимеросал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2300" spc="-1" strike="noStrike">
                <a:solidFill>
                  <a:srgbClr val="c00000"/>
                </a:solidFill>
                <a:latin typeface="Comic Sans MS"/>
              </a:rPr>
              <a:t>0,001-0,004%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) се користи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као презерватив за вакцине и серум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357120" y="1381320"/>
            <a:ext cx="8572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Бој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Генцијана виолет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 природна боја која се у као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створ користи за лечење резистентн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ндидијазе усне дупље новорођенчади (соор)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иванол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 акридинска боја која се као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0,1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створ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ти за испирање 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Алдехид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Формалдехид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глутаралдехид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е користе з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зинфекцију гумених катетера и оптичких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струмената. Инструменти и катетери се ставе у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творен простор заједно са таблетам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формалдехида из којих активна супстанца полако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спарава. Глутаралдехид се користи у виду раствор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2%) који мора да се алкалинизује (пХ око 8) да б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 активирао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140360" y="6093000"/>
            <a:ext cx="36511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68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500040" y="1775880"/>
            <a:ext cx="821520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лорхексид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зазива 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строинтестинал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ритациј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. У већим дозама доводи д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ћењ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јетре и плућ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травенска примена и инхалација изазивају метхемоглобинемију и хемолиз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Водоник пероксид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лује локално надражајн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убаци у дубоку рану, може ослободити кисеоник и направити гасну емболиј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попије, изазива само мучнину и повраћањ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Када се водоник пероксид попије, треба 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клонити гас из желуца назогастричком сукцијо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цијента који има гасну емболију плућне артерије ставити одмах у Тренделенбургов положај и хитно послати у хипербаричну комор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6084720" y="63360"/>
            <a:ext cx="278640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285840" y="1535040"/>
            <a:ext cx="8858160" cy="49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Јодофор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у супстанце у којима је јод везан за високомолекуларни носач, што омогућује већу растворљивост (нпр. повидон)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 ингестије, јод и јодофоре делују каустично: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азивају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ол, повраћање, пролив, хиповолемиј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и шок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цијенту треба одмах дати раствор скроба или млеко, јер у контакту са њима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од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релази у мање токсичне јодиде; садржај желуца постаје тамно-љубичаст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Треба применити и активни уга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алијум перманганат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KMn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је ј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оксидационо средство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попије, делује каустично; у контакту са водом распада се на Mn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KOH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Манган диоксид боји ткива црно-браон.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бог оксидативног дејства изазива метхемоглобинемију, хемолизу, о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ћење јетре и плућа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Тровање калијум перманганатом се л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чи као тровање базама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428760" y="180648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Гас хлор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азива 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ћење плућ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ношење препарата хлора оралним путем има каустично дејство на желудац и једња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Формалдехид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 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ично налази у водено-алкохолном раствору (37% формалдехида, 12-15% метанола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унесе орално, делује каустичн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што се апсорбује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формалдехи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релази у мрављу киселину и изазива тешку ацидоз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Треба 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именити натријум-бикарбонат како би се сузбила ацидоз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окал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 промен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лечити као код ингестије киселина или баз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00040" y="1595520"/>
            <a:ext cx="82152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Фенол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лује каустично у гастроинтестиналном тракт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ЦНС-у делује стимулативн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имптоми и знац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тровања с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нвулзије, летаргија, ком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цидоза, метхемоглобинемиј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, 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л у трбуху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враћањ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ерфорац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проспе на кожу, пребојава је бледо брао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контаминацију кож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треб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дити са нискомолекуларним полиетилен-гликолом (ПЕТ 300 или 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ексахлорофен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хлор-фенол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ез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о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л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метил-феноли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лују каустично, изазивају хемолизу, 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ћење бубрега и јетре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депресију ЦНС-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ронична употреба хексахлорофена код беба доводи до вакуоларне енцефалопат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НЕЖЕЉЕНА ДЕЈСТВА АНТИСЕПТИКА И ДЕЗИНФИЦИЈЕНА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42960" y="1857240"/>
            <a:ext cx="821520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орна киселина (H</a:t>
            </a:r>
            <a:r>
              <a:rPr b="1" lang="en-US" sz="2400" spc="-1" strike="noStrike" baseline="-30000">
                <a:solidFill>
                  <a:srgbClr val="c0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BO</a:t>
            </a:r>
            <a:r>
              <a:rPr b="1" lang="en-US" sz="2400" spc="-1" strike="noStrike" baseline="-30000">
                <a:solidFill>
                  <a:srgbClr val="c0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 добија из боракса (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ристи као отров за бубашваб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попије, делује локално надражајно (бол у трбуху, повраћање, пролив – зелено-плав садржај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цијент цео поцрвени, личи на “куваног рака”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спа је посебно присутна на табанима, длановима и задњици; после 1-2 дана долази до десквамац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Може доћи и до 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тећење бубрег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лопец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е јављ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од хроничне изложеност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Код тровања борном киселином 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тивни угаљ не вреди користити, јер се не везује з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ов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иселин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емодијализа може бит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д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и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ТИСЕПТИЦИ КОЈИ СЕ ПРИМЕЊУЈУ У УСНОЈ ДУПЉ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00040" y="1643040"/>
            <a:ext cx="842976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септици се користе у оквиру паста за зубе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ругих препарата ради превенциј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формирањ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актеријског пл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 ту сврху користе се бис-бигванидни антисептиц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хлорхексидин), кватернерна амонијумов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једињења (цетилпиридинијум и бензалконијум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лорид), феноли, оксидациона средства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терџенти и амино-алкохо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 сада је највећу ефикасност показао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хлорхексид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 спречавање плака антисептици се користе у вид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ечности за испирање уста, жвакаће гуме и паст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 зу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Хлорхексидин глукона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451440" y="4286160"/>
            <a:ext cx="64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ндикације:  лечење периодонтитиса код одрасл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према се у виду раствора за испирање уста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кротаблета које се постављају у гингивалне џеп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536400" y="1413000"/>
            <a:ext cx="8026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Антисептици у стоматологиј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428760" y="173520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лорхексидин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некада доводи до пребојавања језика браон бојом, посебно ако се у храни налазе супстанце које су анјони, а саме имају својство боје. Има горак укус, и код неких пацијената може довести до поремећаја укуса. Веома ретко се јављају улкуси слузокоже желуца и оток паротидне жлез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Горе наведени антисептици се могу користити за испирање постоперативне ране, за лечење рецидивантних оралних улцерација, за лечење стоматитиса због протезе и за дезинфекцију постављених ортодонстских апарат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Цетилпиридинију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802800" y="4143240"/>
            <a:ext cx="403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ристи се у концентрацији од 0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речава настанак плака и л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ингивит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5435640" y="1203480"/>
            <a:ext cx="33163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ЧЕПИЋИ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(Suppositori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571680" y="1657440"/>
            <a:ext cx="835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Comic Sans MS"/>
              </a:rPr>
              <a:t>Супозиторијуми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су меки лековити препарат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ничног, кугластог, ваљкастог или јајасто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облика који служе за увлачење у отворе тел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анус, вагина, нос, уво, ран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На собној температури су чвршћи, што им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омогућав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примену. У додиру са телом температур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супозиторијума расте и они се топе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ослобађајући лековиту супстанц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Супозиторијуми се могу чувати само на собној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температури; ако се чувају у хладњаку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долаз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до иреверзибилних промена 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нституенсу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супозиторијуми постају крти и неупотребљив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ЧЕПИЋИ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(Suppositori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С обзиром да се лако кваре, чепићи се издају увијени у воштану хартију или станиол. Увек треба скренути пажњу болеснику да пре примене чепића скине станиол и да се чепић не гута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ppositoria analia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57120" y="1804680"/>
            <a:ext cx="84297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Ч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епићи за аналну примену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г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у око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око 3цм а широки око 1ц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нституенси аналних чепића могу бити какаов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ље (Cacao oleum), полиетиленгликоли ил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меса желатина и глицеро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нални супозиторијуми се примењују тако што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тискују у анус прстом све док не прођу аналн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финктер; знак да је чепић правилно примењен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сте да се не може споља напипа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ppositoria analia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85840" y="1785960"/>
            <a:ext cx="8643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ековите супстанце примењујемо у облику чепића онд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да желимо 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локално дејство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 анални канал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нда када желимо да лек 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е дражи слузокож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желуца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ли да приликом апсорпције 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заобиђ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јетру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јер венска крв из аналног канала и доње 1/4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ектума отиче у доње хемороидалне вене које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ко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. iliaca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nae et communi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уливају у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њу шупљу вену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стероидни антиинфламаторни лекови који имају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војство да драже слузокожу желуца се често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мењују у облику чепић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Globuli vaginales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14200" y="2413080"/>
            <a:ext cx="89298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Ч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епићи за вагиналну примену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(Ovula, Vagito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Они су округли или јајасти, већи од аналних чепић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нституенси вагиналних чепића су исти као код аналних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чепић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Вагиториа треба да се распадне најдаље за 60 минута п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аплик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Cereoli (Bacilli medicati seu Styli)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500040" y="1996920"/>
            <a:ext cx="86439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Ш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тапићи за примену у нос, спољни ушни канал, уретру, ране или синусе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Тањи су од аналних чепића, ваљкасти и на крајевим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зашиљ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нституенс је сличан конституенсу аналних чепић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Користе се када је потребно локално дејство л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Штапићи који се уносе у уретру или ране морају бит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стерил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АНТИСЕПТИЦИ И ДЕЗИНФИЦИЈЕНС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57120" y="1500120"/>
            <a:ext cx="84297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Дезинфекци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је поступак уништавањ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егетативних облика микроорганизама пр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чему споре остају неоштећене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ко се дезинфекција спроводи на кожи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лузокожама човека, такав поступак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зивам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антисепсо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нтисептиц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езинфицијенс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су супстанц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ј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специфично делују на микроорганизм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ршећи денатурацију њихових структурних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функционалних протеина. Они су сувиш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ксични за ткив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 би се примењивал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истемски, па се зато користе искључив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окал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428760" y="1810080"/>
            <a:ext cx="850104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Алкохол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Највише се користи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етанол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концентрацији од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70%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Њиме се врши чишћењ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же пре примене ињекције и пре хируршк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тервенције (тада се кожа прво очисти бензином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тим алкохолом и на крају препаратом ј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Киселин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орна киселин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користи као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3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аствор за испирање шупљих органа (мокраћ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ешике, вагине, ректума). У виду праха користи се з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ипање газа на ранама које су инфициране с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seudomonas aeruginos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285840" y="2054160"/>
            <a:ext cx="857232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Фенол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Први од фенола је коришћен обични фенол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знат под називом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арболна киселин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нглески хирург Листер је први почео ер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нтисепсе (1864. године) управо употребом карбол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иселине. Раствор карболне киселине (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3-5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ти за дезинфекцију инструмената који се 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гу стерилисати топлотом и за дезинфекциј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дова и зидова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личну употребу имају и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резол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метил-фено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57120" y="1428840"/>
            <a:ext cx="850104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Оксидациона средств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Ове супстанце врше оксидацију протеин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икроорганизама и на тај начин их денатуриш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алијум перманганат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"хиперманган", К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у разблажењу од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:500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ористи за испирање р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Водоник пероксид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"хидроген"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у виду 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3%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створ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ти за испирање рана; не само да оксидиш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икроорганизме, већ ствара пену (због ослобађања кисеоника)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ја чисто механички избацује нечистоће из ране. Такођ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лује локално хемостатички. Веома дубоке ране не треб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спирати водоник пероксидом јер ослобођени кисеоник мож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ћи у отворене крвне судове и изазвати гасну емболију. У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сетоструко већем разблажењу (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0,3%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водоник пероксид с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же употребити за испирање усне шупљине и орофарин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дињење сирћетне киселине са водоник пероксидом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ерсирћетна киселин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ОО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користи з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зинфекцију предмета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58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428760" y="1168920"/>
            <a:ext cx="87152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Халогена једињењ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То су супстанције које у свом молекулу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мају неки халогени елемент (обично јод или хлор).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лкохолни раствор јода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тинктура јода: 6,5г јода + 2,5г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лијум јодида + 91г концентрованог алкохола) се корист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чишћење коже пре хируршке интервенције, з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мазивање околине ране и за брзу припрему руку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ирурга. У новије време за чишћење коже користе с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дињења јода са поливинил-пиролидоном, тзв.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овидон-</a:t>
            </a:r>
            <a:r>
              <a:rPr b="0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јод,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створ и пена. Са препаратима јода треба бит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резан код мале деце јер ексцесивна апсорпција са кож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же довести до хипотиреоз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Carrel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Dakin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ов раствор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раствор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атријум-хипохлорит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с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ристи за испирање рана. Сличну функцију има и 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аствор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хлорамин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п-толуолсулфан хлорамид натријум, 0,25-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5%) који се, осим тога, може користити и з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зинфекцију предмета и подова (1-5%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500040" y="22748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Детерџент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Детерџенти су површински актив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атерије чији катјонски део продире кроз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мбрану микроорганизма и разара је. Катјонск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о скоро увек садржи кватернерни азот.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ензалконијум хлорид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 други детерџенти с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марно користе за дезинфекцију предмета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дов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Групе антисеп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500040" y="2214720"/>
            <a:ext cx="83581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mic Sans MS"/>
              </a:rPr>
              <a:t>Сапун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Механизам дејства сапуна је исти као код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терџената, али је овде део молекуле кој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дире у мембрану микроорганизма 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ј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н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пуни су у ствари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натријумов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калијумов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соли масних киселин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Користе се за прање 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зинфекцију коже пре хируршке интервенције.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5-08-02T11:06:30Z</dcterms:modified>
  <cp:revision>160</cp:revision>
  <dc:subject/>
  <dc:title>Slide 1</dc:title>
</cp:coreProperties>
</file>