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3230-8FFA-4555-B6DA-AA2AD176B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A692-FFC0-434E-9408-93C55366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5336-7DD7-42E9-B202-9580A5010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0137-84B1-45D2-BAF4-2FD029B25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CF93-F1FE-4B05-9126-D17313E0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D10D-3567-430D-87C4-3ACA1140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23A7-BB27-4F89-A1BB-9F1C8AC4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C49E-B188-4D54-9B61-D5AC4708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918C-888B-461A-A095-33C7B780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7B95-A9BB-401F-A081-F1D0D4CF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A15F-688C-4702-ADFB-5EB6010B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10AD-DFE2-48C3-8087-FE406F7F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8997-A936-41E9-9022-8BBF53A7AFFE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00120"/>
            <a:ext cx="7815240" cy="21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Фармакологија и токсикологија за стоматологију –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8. </a:t>
            </a: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недеља настав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проф. др Слободан Јанкови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Групе антисепти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285840" y="1285920"/>
            <a:ext cx="885816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 u="sng">
                <a:solidFill>
                  <a:srgbClr val="c00000"/>
                </a:solidFill>
                <a:uFillTx/>
                <a:latin typeface="Comic Sans MS"/>
              </a:rPr>
              <a:t>Тешки метали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c00000"/>
                </a:solidFill>
                <a:latin typeface="Comic Sans MS"/>
              </a:rPr>
              <a:t>Сребро нитрат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(А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gN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О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) у концентрацији од </a:t>
            </a:r>
            <a:r>
              <a:rPr b="0" lang="ru-RU" sz="2300" spc="-1" strike="noStrike">
                <a:solidFill>
                  <a:srgbClr val="c00000"/>
                </a:solidFill>
                <a:latin typeface="Comic Sans MS"/>
              </a:rPr>
              <a:t>0.1%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(Кредеове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капи) се са успехом користио за превенцију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инфекције ока проузроковачем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гонореје; сваком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новорођенчету се укапавала по једна кап овог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раствора у оба ока. Штапићи сребро нитрата се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користе као каустично средство за отклањање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хипертрофичних гранулација у ранама.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Сублимат (</a:t>
            </a:r>
            <a:r>
              <a:rPr b="0" lang="ru-RU" sz="2300" spc="-1" strike="noStrike">
                <a:solidFill>
                  <a:srgbClr val="c00000"/>
                </a:solidFill>
                <a:latin typeface="Comic Sans MS"/>
              </a:rPr>
              <a:t>живин хлорид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HgCl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) се у разблажењу од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300" spc="-1" strike="noStrike">
                <a:solidFill>
                  <a:srgbClr val="c00000"/>
                </a:solidFill>
                <a:latin typeface="Comic Sans MS"/>
              </a:rPr>
              <a:t>1:1000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 користи за дезинфекцију предмета и, у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недостатку бољих средстава, за брзу дезинфекцију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руку хирурга после прања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Једињење живе </a:t>
            </a:r>
            <a:r>
              <a:rPr b="0" lang="ru-RU" sz="2300" spc="-1" strike="noStrike">
                <a:solidFill>
                  <a:srgbClr val="c00000"/>
                </a:solidFill>
                <a:latin typeface="Comic Sans MS"/>
              </a:rPr>
              <a:t>тимеросал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ru-RU" sz="2300" spc="-1" strike="noStrike">
                <a:solidFill>
                  <a:srgbClr val="c00000"/>
                </a:solidFill>
                <a:latin typeface="Comic Sans MS"/>
              </a:rPr>
              <a:t>0,001-0,004%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) се користи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као презерватив за вакцине и серум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Групе антисепти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Rectangle 1"/>
          <p:cNvSpPr/>
          <p:nvPr/>
        </p:nvSpPr>
        <p:spPr>
          <a:xfrm>
            <a:off x="357120" y="1381320"/>
            <a:ext cx="8572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Comic Sans MS"/>
                <a:ea typeface="Times New Roman"/>
              </a:rPr>
              <a:t>Бој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Генцијана виолет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је природна боја која се у као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1%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раствор користи за лечење резистентне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андидијазе усне дупље новорођенчади (соор).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Риванол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је акридинска боја која се као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0,1%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раствор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ристи за испирање р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Comic Sans MS"/>
                <a:ea typeface="Times New Roman"/>
              </a:rPr>
              <a:t>Алдехид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Формалдехид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и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глутаралдехид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се користе за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езинфекцију гумених катетера и оптичких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нструмената. Инструменти и катетери се ставе у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затворен простор заједно са таблетама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формалдехида из којих активна супстанца полако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спарава. Глутаралдехид се користи у виду раствора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2%) који мора да се алкалинизује (пХ око 8) да би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е активирао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4140360" y="6093000"/>
            <a:ext cx="365112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68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НЕЖЕЉЕНА ДЕЈСТВА АНТИСЕПТИКА И ДЕЗИНФИЦИЈЕНАС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Rectangle 1"/>
          <p:cNvSpPr/>
          <p:nvPr/>
        </p:nvSpPr>
        <p:spPr>
          <a:xfrm>
            <a:off x="500040" y="1775880"/>
            <a:ext cx="8215200" cy="49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Хлорхексиди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изазива 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строинтестинал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иритациј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. У већим дозама доводи до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ећењ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јетре и плућ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нтравенска примена и инхалација изазивају метхемоглобинемију и хемолизу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Водоник пероксид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елује локално надражајно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ко се убаци у дубоку рану, може ослободити кисеоник и направити гасну емболију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ко се попије, изазива само мучнину и повраћањ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Када се водоник пероксид попије, треба о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клонити гас из желуца назогастричком сукцијом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ацијента који има гасну емболију плућне артерије ставити одмах у Тренделенбургов положај и хитно послати у хипербаричну комору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6084720" y="63360"/>
            <a:ext cx="278640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НЕЖЕЉЕНА ДЕЈСТВА АНТИСЕПТИКА И ДЕЗИНФИЦИЈЕНАС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Rectangle 1"/>
          <p:cNvSpPr/>
          <p:nvPr/>
        </p:nvSpPr>
        <p:spPr>
          <a:xfrm>
            <a:off x="285840" y="1535040"/>
            <a:ext cx="8858160" cy="49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Јодофоре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у супстанце у којима је јод везан за високомолекуларни носач, што омогућује већу растворљивост (нпр. повидон)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сле ингестије, јод и јодофоре делују каустично: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зазивају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бол, повраћање, пролив, хиповолемиј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 и шок.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ацијенту треба одмах дати раствор скроба или млеко, јер у контакту са њима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јод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прелази у мање токсичне јодиде; садржај желуца постаје тамно-љубичаст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Треба применити и активни угаљ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Калијум перманганат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KMnO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је ј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ко оксидационо средство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ко се попије, делује каустично; у контакту са водом распада се на MnO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KOH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Манган диоксид боји ткива црно-браон.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Због оксидативног дејства изазива метхемоглобинемију, хемолизу, о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ш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ећење јетре и плућа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Тровање калијум перманганатом се л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ечи као тровање базама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НЕЖЕЉЕНА ДЕЈСТВА АНТИСЕПТИКА И ДЕЗИНФИЦИЈЕНАС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Rectangle 1"/>
          <p:cNvSpPr/>
          <p:nvPr/>
        </p:nvSpPr>
        <p:spPr>
          <a:xfrm>
            <a:off x="428760" y="1806480"/>
            <a:ext cx="8215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Гас хлор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зазива о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ећење плућ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ношење препарата хлора оралним путем има каустично дејство на желудац и једњак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Формалдехид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е о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бично налази у водено-алкохолном раствору (37% формалдехида, 12-15% метанола)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ко се унесе орално, делује каустично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што се апсорбује,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формалдехи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прелази у мрављу киселину и изазива тешку ацидозу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Треба 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рименити натријум-бикарбонат како би се сузбила ацидоз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Локал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е промен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лечити као код ингестије киселина или баз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НЕЖЕЉЕНА ДЕЈСТВА АНТИСЕПТИКА И ДЕЗИНФИЦИЈЕНАС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00040" y="1595520"/>
            <a:ext cx="821520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Фенол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елује каустично у гастроинтестиналном тракту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 ЦНС-у делује стимулативно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имптоми и знац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тровања су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к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нвулзије, летаргија, ком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цидоза, метхемоглобинемиј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, б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л у трбуху,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враћањ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перфорациј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ко се проспе на кожу, пребојава је бледо брао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еконтаминацију кож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треб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радити са нискомолекуларним полиетилен-гликолом (ПЕТ 300 или 4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Хексахлорофен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хлор-фенол)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и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к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рез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о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л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метил-феноли)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елују каустично, изазивају хемолизу, о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ећење бубрега и јетре,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депресију ЦНС-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Хронична употреба хексахлорофена код беба доводи до вакуоларне енцефалопатиј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НЕЖЕЉЕНА ДЕЈСТВА АНТИСЕПТИКА И ДЕЗИНФИЦИЈЕНАС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42960" y="1857240"/>
            <a:ext cx="8215200" cy="46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Борна киселина (H</a:t>
            </a:r>
            <a:r>
              <a:rPr b="1" lang="en-US" sz="2400" spc="-1" strike="noStrike" baseline="-30000">
                <a:solidFill>
                  <a:srgbClr val="c00000"/>
                </a:solidFill>
                <a:latin typeface="Comic Sans MS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BO</a:t>
            </a:r>
            <a:r>
              <a:rPr b="1" lang="en-US" sz="2400" spc="-1" strike="noStrike" baseline="-30000">
                <a:solidFill>
                  <a:srgbClr val="c00000"/>
                </a:solidFill>
                <a:latin typeface="Comic Sans MS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е добија из боракса (N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)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и к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ристи као отров за бубашваб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ко се попије, делује локално надражајно (бол у трбуху, повраћање, пролив – зелено-плав садржај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ацијент цео поцрвени, личи на “куваног рака”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спа је посебно присутна на табанима, длановима и задњици; после 1-2 дана долази до десквамациј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Може доћи и до о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штећење бубрег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лопециј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се јављ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код хроничне изложеност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Код тровања борном киселином 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тивни угаљ не вреди користити, јер се не везује з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ову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киселину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Хемодијализа може бит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д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рис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и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004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000000"/>
                </a:solidFill>
                <a:latin typeface="Comic Sans MS"/>
              </a:rPr>
              <a:t>Вежб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АНТИСЕПТИЦИ КОЈИ СЕ ПРИМЕЊУЈУ У УСНОЈ ДУПЉ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500040" y="1643040"/>
            <a:ext cx="842976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нтисептици се користе у оквиру паста за зубе 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ругих препарата ради превенциј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формирањ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бактеријског пла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За ту сврху користе се бис-бигванидни антисептиц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(хлорхексидин), кватернерна амонијумов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једињења (цетилпиридинијум и бензалконијум-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хлорид), феноли, оксидациона средства,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етерџенти и амино-алкохо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о сада је највећу ефикасност показао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хлорхексиди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За спречавање плака антисептици се користе у виду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течности за испирање уста, жвакаће гуме и паст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за зу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Хлорхексидин глукона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451440" y="4286160"/>
            <a:ext cx="64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ндикације:  лечење периодонтитиса код одрасл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ипрема се у виду раствора за испирање уста 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микротаблета које се постављају у гингивалне џеп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536400" y="1413000"/>
            <a:ext cx="80265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299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000000"/>
                </a:solidFill>
                <a:latin typeface="Comic Sans MS"/>
              </a:rPr>
              <a:t>Предавањ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Антисептици у стоматологиј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Rectangle 1"/>
          <p:cNvSpPr/>
          <p:nvPr/>
        </p:nvSpPr>
        <p:spPr>
          <a:xfrm>
            <a:off x="428760" y="1735200"/>
            <a:ext cx="8143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Хлорхексидин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некада доводи до пребојавања језика браон бојом, посебно ако се у храни налазе супстанце које су анјони, а саме имају својство боје. Има горак укус, и код неких пацијената може довести до поремећаја укуса. Веома ретко се јављају улкуси слузокоже желуца и оток паротидне жлез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Горе наведени антисептици се могу користити за испирање постоперативне ране, за лечење рецидивантних оралних улцерација, за лечење стоматитиса због протезе и за дезинфекцију постављених ортодонстских апарата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Цетилпиридинију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802800" y="4143240"/>
            <a:ext cx="403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ристи се у концентрацији од 0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пречава настанак плака и леч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ингивит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5435640" y="1203480"/>
            <a:ext cx="331632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ЧЕПИЋИ</a:t>
            </a:r>
            <a:br>
              <a:rPr sz="3600"/>
            </a:br>
            <a:r>
              <a:rPr b="1" lang="it-IT" sz="3600" spc="-1" strike="noStrike">
                <a:solidFill>
                  <a:srgbClr val="000000"/>
                </a:solidFill>
                <a:latin typeface="Comic Sans MS"/>
              </a:rPr>
              <a:t>(Suppositoria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571680" y="1657440"/>
            <a:ext cx="8358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00000"/>
                </a:solidFill>
                <a:latin typeface="Comic Sans MS"/>
              </a:rPr>
              <a:t>Супозиторијуми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су меки лековити препарат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коничног, кугластог, ваљкастог или јајастог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облика који служе за увлачење у отворе тел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анус, вагина, нос, уво, ран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На собној температури су чвршћи, што им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омогућав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примену. У додиру са телом температур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супозиторијума расте и они се топе,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ослобађајући лековиту супстанц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Супозиторијуми се могу чувати само на собној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температури; ако се чувају у хладњаку,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долаз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до иреверзибилних промена у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конституенсу 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супозиторијуми постају крти и неупотребљиви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ЧЕПИЋИ</a:t>
            </a:r>
            <a:br>
              <a:rPr sz="3600"/>
            </a:br>
            <a:r>
              <a:rPr b="1" lang="it-IT" sz="3600" spc="-1" strike="noStrike">
                <a:solidFill>
                  <a:srgbClr val="000000"/>
                </a:solidFill>
                <a:latin typeface="Comic Sans MS"/>
              </a:rPr>
              <a:t>(Suppositoria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000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С обзиром да се лако кваре, чепићи се издају увијени у воштану хартију или станиол. Увек треба скренути пажњу болеснику да пре примене чепића скине станиол и да се чепић не гута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</a:t>
            </a:r>
            <a:r>
              <a:rPr b="1" lang="it-IT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ppositoria analia</a:t>
            </a:r>
            <a:r>
              <a:rPr b="0" lang="it-IT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357120" y="1804680"/>
            <a:ext cx="842976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Ч</a:t>
            </a:r>
            <a:r>
              <a:rPr b="1" lang="it-IT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епићи за аналну примену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г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су око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око 3цм а широки око 1ц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нституенси аналних чепића могу бити какаово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ље (Cacao oleum), полиетиленгликоли ил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меса желатина и глицеро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нални супозиторијуми се примењују тако што с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тискују у анус прстом све док не прођу аналн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финктер; знак да је чепић правилно примењен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јесте да се не може споља напипа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</a:t>
            </a:r>
            <a:r>
              <a:rPr b="1" lang="it-IT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ppositoria analia</a:t>
            </a:r>
            <a:r>
              <a:rPr b="0" lang="it-IT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285840" y="1785960"/>
            <a:ext cx="8643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Лековите супстанце примењујемо у облику чепића онд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ада желимо </a:t>
            </a:r>
            <a:r>
              <a:rPr b="0" lang="it-IT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локално дејство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а анални канал 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нда када желимо да лек </a:t>
            </a:r>
            <a:r>
              <a:rPr b="0" lang="it-IT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не дражи слузокожу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желуца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ли да приликом апсорпције </a:t>
            </a:r>
            <a:r>
              <a:rPr b="0" lang="it-IT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заобиђ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јетру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јер венска крв из аналног канала и доње 1/4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ректума отиче у доње хемороидалне вене које с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еко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. iliaca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nae et communis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уливају у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оњу шупљу вену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естероидни антиинфламаторни лекови који имају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војство да драже слузокожу желуца се често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имењују у облику чепића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lang="it-IT" sz="4000" spc="-1" strike="noStrike">
                <a:solidFill>
                  <a:srgbClr val="000000"/>
                </a:solidFill>
                <a:latin typeface="Comic Sans MS"/>
              </a:rPr>
              <a:t>Globuli vaginales</a:t>
            </a:r>
            <a:r>
              <a:rPr b="0" lang="it-IT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14200" y="2413080"/>
            <a:ext cx="89298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Ч</a:t>
            </a:r>
            <a:r>
              <a:rPr b="1" lang="it-IT" sz="2800" spc="-1" strike="noStrike">
                <a:solidFill>
                  <a:srgbClr val="c00000"/>
                </a:solidFill>
                <a:latin typeface="Comic Sans MS"/>
              </a:rPr>
              <a:t>епићи за вагиналну примену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c00000"/>
                </a:solidFill>
                <a:latin typeface="Comic Sans MS"/>
              </a:rPr>
              <a:t>(Ovula, Vagitor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Они су округли или јајасти, већи од аналних чепић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Конституенси вагиналних чепића су исти као код аналних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чепић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Вагиториа треба да се распадне најдаље за 60 минута по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апликац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it-IT" sz="4000" spc="-1" strike="noStrike">
                <a:solidFill>
                  <a:srgbClr val="000000"/>
                </a:solidFill>
                <a:latin typeface="Comic Sans MS"/>
              </a:rPr>
              <a:t>Cereoli (Bacilli medicati seu Styli)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500040" y="1996920"/>
            <a:ext cx="864396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Ш</a:t>
            </a:r>
            <a:r>
              <a:rPr b="1" lang="it-IT" sz="2800" spc="-1" strike="noStrike">
                <a:solidFill>
                  <a:srgbClr val="c00000"/>
                </a:solidFill>
                <a:latin typeface="Comic Sans MS"/>
              </a:rPr>
              <a:t>тапићи за примену у нос, спољни ушни канал, уретру, ране или синусе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: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Тањи су од аналних чепића, ваљкасти и на крајевим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зашиљ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Конституенс је сличан конституенсу аналних чепић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Користе се када је потребно локално дејство л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Штапићи који се уносе у уретру или ране морају бит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стерилн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АНТИСЕПТИЦИ И ДЕЗИНФИЦИЈЕНС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57120" y="1500120"/>
            <a:ext cx="842976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Дезинфекциј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је поступак уништавањ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вегетативних облика микроорганизама пр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чему споре остају неоштећене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ко се дезинфекција спроводи на кожи 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лузокожама човека, такав поступак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азивамо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антисепсом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Антисептиц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дезинфицијенс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су супстанц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ој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специфично делују на микроорганизм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ршећи денатурацију њихових структурних 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функционалних протеина. Они су сувиш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оксични за ткив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а би се примењивал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истемски, па се зато користе искључиво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локал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Групе антисепти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Rectangle 1"/>
          <p:cNvSpPr/>
          <p:nvPr/>
        </p:nvSpPr>
        <p:spPr>
          <a:xfrm>
            <a:off x="428760" y="1810080"/>
            <a:ext cx="8501040" cy="42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Comic Sans MS"/>
                <a:ea typeface="Times New Roman"/>
              </a:rPr>
              <a:t>Алкохол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Највише се користи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етанол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</a:t>
            </a:r>
            <a:r>
              <a:rPr b="0" lang="pl-P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</a:t>
            </a:r>
            <a:r>
              <a:rPr b="0" lang="pl-P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 концентрацији од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70%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Њиме се врши чишћењ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же пре примене ињекције и пре хируршк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нтервенције (тада се кожа прво очисти бензином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затим алкохолом и на крају препаратом јод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Comic Sans MS"/>
                <a:ea typeface="Times New Roman"/>
              </a:rPr>
              <a:t>Киселин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Борна киселина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</a:t>
            </a:r>
            <a:r>
              <a:rPr b="0" lang="pl-P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pl-P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се користи као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3%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раствор за испирање шупљих органа (мокраћн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бешике, вагине, ректума). У виду праха користи се з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сипање газа на ранама које су инфициране с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seudomonas aeruginosa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Групе антисепти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285840" y="2054160"/>
            <a:ext cx="8572320" cy="34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Comic Sans MS"/>
                <a:ea typeface="Times New Roman"/>
              </a:rPr>
              <a:t>Фенол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Први од фенола је коришћен обични фенол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знат под називом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карболна киселина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</a:t>
            </a:r>
            <a:r>
              <a:rPr b="0" lang="pl-P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6</a:t>
            </a:r>
            <a:r>
              <a:rPr b="0" lang="pl-P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</a:t>
            </a:r>
            <a:r>
              <a:rPr b="0" lang="pl-P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Енглески хирург Листер је први почео еру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нтисепсе (1864. године) управо употребом карболн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иселине. Раствор карболне киселине (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3-5%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с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ристи за дезинфекцију инструмената који се н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огу стерилисати топлотом и за дезинфекцију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дова и зидова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личну употребу имају и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крезол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метил-фенол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Групе антисепти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357120" y="1428840"/>
            <a:ext cx="8501040" cy="51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Comic Sans MS"/>
                <a:ea typeface="Times New Roman"/>
              </a:rPr>
              <a:t>Оксидациона средства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Ове супстанце врше оксидацију протеина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икроорганизама и на тај начин их денатуриш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Калијум перманганат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"хиперманган", КМ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се у разблажењу од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1:5000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користи за испирање ра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Водоник пероксид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"хидроген",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се у виду </a:t>
            </a:r>
            <a:r>
              <a:rPr b="0" lang="ru-RU" sz="2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3%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раствора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ристи за испирање рана; не само да оксидише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икроорганизме, већ ствара пену (због ослобађања кисеоника)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ја чисто механички избацује нечистоће из ране. Такође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елује локално хемостатички. Веома дубоке ране не треба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спирати водоник пероксидом јер ослобођени кисеоник може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ћи у отворене крвне судове и изазвати гасну емболију. У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есетоструко већем разблажењу (</a:t>
            </a:r>
            <a:r>
              <a:rPr b="0" lang="ru-RU" sz="2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0,3%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водоник пероксид се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оже употребити за испирање усне шупљине и орофаринк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Једињење сирћетне киселине са водоник пероксидом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</a:t>
            </a:r>
            <a:r>
              <a:rPr b="0" lang="ru-RU" sz="2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ерсирћетна киселина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ОО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се користи за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езинфекцију предмета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58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Групе антисепти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428760" y="1168920"/>
            <a:ext cx="87152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c00000"/>
                </a:solidFill>
                <a:uFillTx/>
                <a:latin typeface="Comic Sans MS"/>
                <a:ea typeface="Times New Roman"/>
              </a:rPr>
              <a:t>Халогена једињења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То су супстанције које у свом молекулу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мају неки халогени елемент (обично јод или хлор). </a:t>
            </a:r>
            <a:r>
              <a:rPr b="0" lang="ru-RU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Алкохолни раствор јода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тинктура јода: 6,5г јода + 2,5г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алијум јодида + 91г концентрованог алкохола) се користи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за чишћење коже пре хируршке интервенције, за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емазивање околине ране и за брзу припрему руку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хирурга. У новије време за чишћење коже користе се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једињења јода са поливинил-пиролидоном, тзв. </a:t>
            </a:r>
            <a:r>
              <a:rPr b="0" lang="ru-RU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овидон-</a:t>
            </a:r>
            <a:r>
              <a:rPr b="0" lang="en-US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јод,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раствор и пена. Са препаратима јода треба бити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резан код мале деце јер ексцесивна апсорпција са коже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оже довести до хипотиреоз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Carrel</a:t>
            </a:r>
            <a:r>
              <a:rPr b="0" lang="ru-RU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-</a:t>
            </a:r>
            <a:r>
              <a:rPr b="0" lang="en-US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Dakin</a:t>
            </a:r>
            <a:r>
              <a:rPr b="0" lang="ru-RU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-ов раствор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раствор </a:t>
            </a:r>
            <a:r>
              <a:rPr b="0" lang="ru-RU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натријум-хипохлорита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се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ристи за испирање рана. Сличну функцију има и </a:t>
            </a:r>
            <a:r>
              <a:rPr b="0" lang="ru-RU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раствор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хлорамина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п-толуолсулфан хлорамид натријум, 0,25-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5%) који се, осим тога, може користити и за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езинфекцију предмета и подова (1-5%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Групе антисепти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500040" y="22748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Comic Sans MS"/>
                <a:ea typeface="Times New Roman"/>
              </a:rPr>
              <a:t>Детерџент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Детерџенти су површински активн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атерије чији катјонски део продире кроз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ембрану микроорганизма и разара је. Катјонск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ео скоро увек садржи кватернерни азот.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Бензалконијум хлорид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 други детерџенти с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имарно користе за дезинфекцију предмета 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дова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Групе антисепти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500040" y="2214720"/>
            <a:ext cx="835812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Comic Sans MS"/>
              </a:rPr>
              <a:t>Сапун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Механизам дејства сапуна је исти као код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етерџената, али је овде део молекуле кој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дире у мембрану микроорганизма 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ј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н.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апуни су у ствари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</a:rPr>
              <a:t>натријумов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ли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</a:rPr>
              <a:t>калијумов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</a:rPr>
              <a:t>соли масних киселин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Користе се за прање и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езинфекцију коже пре хируршке интервенције. 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05:40:50Z</dcterms:created>
  <dc:creator> </dc:creator>
  <dc:description/>
  <dc:language>en-US</dc:language>
  <cp:lastModifiedBy>Slobodan Jankovic</cp:lastModifiedBy>
  <dcterms:modified xsi:type="dcterms:W3CDTF">2015-08-02T11:06:30Z</dcterms:modified>
  <cp:revision>160</cp:revision>
  <dc:subject/>
  <dc:title>Slide 1</dc:title>
</cp:coreProperties>
</file>